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suction.wav" ContentType="audio/x-wav"/>
  <Override PartName="/ppt/media/image9.png" ContentType="image/png"/>
  <Override PartName="/ppt/media/image1.png" ContentType="image/png"/>
  <Override PartName="/ppt/media/image3.jpeg" ContentType="image/jpeg"/>
  <Override PartName="/ppt/media/bomb.wav" ContentType="audio/x-wav"/>
  <Override PartName="/ppt/media/image6.png" ContentType="image/png"/>
  <Override PartName="/ppt/media/camera.wav" ContentType="audio/x-wav"/>
  <Override PartName="/ppt/media/image4.png" ContentType="image/png"/>
  <Override PartName="/ppt/media/cashreg.wav" ContentType="audio/x-wav"/>
  <Override PartName="/ppt/media/image2.gif" ContentType="image/gif"/>
  <Override PartName="/ppt/media/image5.png" ContentType="image/png"/>
  <Override PartName="/ppt/media/breeze.wav" ContentType="audio/x-wav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EF4E-E802-487D-8D1E-996E96BC7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7680-E01D-4439-83B2-3DD7C5FAF7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84E3-E10F-4ACB-AA53-04F16A03BC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0E5D-4A83-468D-8B4A-1CF9E19907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BC3B-54AB-439B-AD36-83D9F7C4CE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E5EA-12DF-4507-BCD2-A0C9EA0990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EA79-9A9B-4DB1-8F93-E6F1E4461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1499-69C1-452B-8712-CB373103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8CC3-A35D-4B79-964C-48CA8433B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A739-BB8B-4BBA-A438-677F617F6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3ED6-CE56-4963-9C7A-DFE49BC2B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C676-4F5E-418C-BA2C-40C9B3AD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547D-BD49-4DEC-A406-F36FF6E4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5B00-CB66-435F-83C6-FAA7BC92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8A08-4FD5-43ED-974F-16CA2EBC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C7013-FEF7-4F62-877B-A7FB70AD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E90E-F60F-4498-9C0A-50438D29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D6D1-0EA9-44D8-8DB3-96998F3B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D3BB-B265-4893-AE17-EA957A83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A4BD-0BBA-4528-BD51-6329044D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9A17-E531-42DB-A404-109E3A39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B89E-B6B8-4FFC-B39C-ACEBACC47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683C-C94C-4305-A95F-FC3F52468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12DE-53D9-4CE6-AEC9-0E6CD59D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3CBB-D0B5-4C64-ACA5-D52F63B0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522F-C58A-45AB-8AF1-25536E4A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E6AB-E0D8-4AD2-AB8D-393A4F92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4067-BA72-47A0-B046-69C02F70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71B4-53BA-4C96-9512-AA698350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563D-C19A-4E18-A81E-6230A09C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5CC4-BBAE-49A7-9E1E-CC7B8F1D0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3F31-1344-42B0-B9B1-3CAFD79CF7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HOUSE OF REPS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NQ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Questions to check your knowled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the answers ON A SEPARATE PIECE OF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following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4" name="bomb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525240"/>
            <a:ext cx="9144000" cy="21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. What is the </a:t>
            </a:r>
            <a:r>
              <a:rPr b="1" i="1" lang="en-US" sz="4400" spc="-1" strike="noStrike" u="sng">
                <a:solidFill>
                  <a:srgbClr val="000066"/>
                </a:solidFill>
                <a:uFillTx/>
                <a:latin typeface="Arial Black"/>
              </a:rPr>
              <a:t>term limit </a:t>
            </a: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for a member of the House of Representative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2629080" y="274320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randomBar dir="vert"/>
    <p:sndAc>
      <p:stSnd>
        <p:snd r:embed="rId3" name="cashre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95400"/>
            <a:ext cx="9144000" cy="28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2. Please write the THREE qualifications for becoming a member of the House of Representatives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"/>
          <p:cNvPicPr/>
          <p:nvPr/>
        </p:nvPicPr>
        <p:blipFill>
          <a:blip r:embed="rId3"/>
          <a:stretch/>
        </p:blipFill>
        <p:spPr>
          <a:xfrm>
            <a:off x="2666880" y="3465360"/>
            <a:ext cx="3330720" cy="320040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wheel spokes="1"/>
    <p:sndAc>
      <p:stSnd>
        <p:snd r:embed="rId4" name="breez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57360"/>
            <a:ext cx="9144000" cy="28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3. The number of members of the House of Representatives is fixed at _____.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9" name="Picture 7" descr=""/>
          <p:cNvPicPr/>
          <p:nvPr/>
        </p:nvPicPr>
        <p:blipFill>
          <a:blip r:embed="rId2"/>
          <a:stretch/>
        </p:blipFill>
        <p:spPr>
          <a:xfrm>
            <a:off x="2033640" y="3886200"/>
            <a:ext cx="5076720" cy="266688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circle/>
    <p:sndAc>
      <p:stSnd>
        <p:snd r:embed="rId3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1168200"/>
            <a:ext cx="807696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4. Who is YOUR Congressman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3206880" y="2895480"/>
            <a:ext cx="2730240" cy="411480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cover dir="l"/>
    <p:sndAc>
      <p:stSnd>
        <p:snd r:embed="rId3" name="suction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44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5. What is the Congressional District for Oak Ridge, TN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5" name="Picture 6" descr=""/>
          <p:cNvPicPr/>
          <p:nvPr/>
        </p:nvPicPr>
        <p:blipFill>
          <a:blip r:embed="rId2"/>
          <a:stretch/>
        </p:blipFill>
        <p:spPr>
          <a:xfrm>
            <a:off x="685800" y="3038400"/>
            <a:ext cx="7772400" cy="2000160"/>
          </a:xfrm>
          <a:prstGeom prst="rect">
            <a:avLst/>
          </a:prstGeom>
          <a:ln w="0">
            <a:noFill/>
          </a:ln>
        </p:spPr>
      </p:pic>
    </p:spTree>
  </p:cSld>
  <p:transition spd="med" advTm="60000">
    <p:fade/>
    <p:sndAc>
      <p:stSnd>
        <p:snd r:embed="rId3" name="breez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2-02-20T15:07:09Z</dcterms:modified>
  <cp:revision>141</cp:revision>
  <dc:subject/>
  <dc:title>D/O: TO EXPLAIN AND IDENTIFY PROBLEMS OF ECONOMICS</dc:title>
</cp:coreProperties>
</file>